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C5E-9758-4A0D-967B-017DEF2C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605-8B69-4568-AB53-B7C94C29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A3D-A549-4D27-9D5A-77453C14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3F2-0977-44BE-BA18-487D3422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C639-2AB0-4CB5-B49C-78504502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839-B477-4F3C-99C3-AD425E6F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16D-E403-45B0-B83A-E0426564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5DC-3EB0-44E8-B3B6-B0920378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D89-A59A-4CFA-9338-1038A069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123-5E85-409A-8BE1-F38142CA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8EB5-5912-4E37-97E5-66F41A6A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DB8-0C8A-4CDB-9B77-700A44BF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7180-45B5-40CA-AEDE-325E07CA1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17080" y="2863800"/>
            <a:ext cx="374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Tempus Sans ITC"/>
              </a:rPr>
              <a:t>He is Exal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6120" y="3841920"/>
            <a:ext cx="57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He is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The King is exalted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I will prais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He is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Forever exa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And I will praise His name!</a:t>
            </a:r>
            <a:r>
              <a:rPr b="1" lang="pl-PL" sz="3200" spc="-1" strike="noStrike">
                <a:solidFill>
                  <a:srgbClr val="ffff00"/>
                </a:solidFill>
                <a:latin typeface="Tempus Sans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2280" y="0"/>
            <a:ext cx="6017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He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Forever His truth shall re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Rejoice in His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He is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The King is exalted on high!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96120" y="3841920"/>
            <a:ext cx="57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He is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The King is exalted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I will prais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He is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Forever exa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And I will praise His name!</a:t>
            </a:r>
            <a:r>
              <a:rPr b="1" lang="pl-PL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08160" y="0"/>
            <a:ext cx="6220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[He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Forever His truth shall re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Rejoice in His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He is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mpus Sans ITC"/>
                <a:ea typeface="Times New Roman"/>
              </a:rPr>
              <a:t>The King is exalted on high!</a:t>
            </a:r>
            <a:r>
              <a:rPr b="0" lang="pl-P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6:07:07Z</dcterms:created>
  <dc:creator>TrifonTrifonow</dc:creator>
  <dc:description/>
  <dc:language>en-US</dc:language>
  <cp:lastModifiedBy>TrifonTrifonow</cp:lastModifiedBy>
  <dcterms:modified xsi:type="dcterms:W3CDTF">2005-12-28T06:07:38Z</dcterms:modified>
  <cp:revision>1</cp:revision>
  <dc:subject/>
  <dc:title>Slide 1</dc:title>
</cp:coreProperties>
</file>